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A6759-A933-407B-8654-9E7003A14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C0945-BE85-4ED8-BA4E-9721F438E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BB6DB-4DB6-4DAF-954D-4D824C0D0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2951C-FA16-4126-AA06-3BC122816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49C0C-5446-4F92-B6CB-CE81A2313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0D83E-1BD6-4BD9-9B5A-99418BC61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15B66-EDDF-4831-B466-4314F1123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6EA0-71FF-4D66-A1F3-EC9C32199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A35EA-2B0E-40D8-AAA6-85A2CBCF6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7EA20-FD23-4B56-B246-F65709385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E6609-1BA3-4D61-8C14-3715441C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3DFAA-48D7-4113-82D4-E3787F26F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2735-F461-4F64-B1EC-1FB740B21A26}"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900000" y="692280"/>
            <a:ext cx="8064720" cy="5400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3. HAFTA</a:t>
            </a: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GÜZEL VE ETKİLİ KONUŞMA </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00000" y="549360"/>
            <a:ext cx="7344000" cy="5688000"/>
          </a:xfrm>
          <a:prstGeom prst="rect">
            <a:avLst/>
          </a:prstGeom>
          <a:noFill/>
          <a:ln w="0">
            <a:noFill/>
          </a:ln>
        </p:spPr>
        <p:txBody>
          <a:bodyPr anchor="t">
            <a:normAutofit fontScale="99000"/>
          </a:bodyPr>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Söyleyiş tarzıyla İlgili yanlışlar</a:t>
            </a:r>
            <a:endParaRPr b="0" lang="en-US" sz="28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Dinleyiciler üzerinde etkili olabilme konuşma alışkanlığını kazanmaya ve disiplinli çalışmaya bağlıdır. Etkili ve güzel konuşmada içerik kadar söyleyiş tarzı da önemlidir. Neyi, ne zaman, nerede söyleyeceğini bilmeyen insanın güzel konuşması da zordur. Konuşmanın etkisini azaltan ve ahengini bozan söyleyiş tarzıyla ilgili bazı yanlışlar aşağıya sıralanmıştır:</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Aynı kelimeleri tekrarlayıp durmak: </a:t>
            </a:r>
            <a:r>
              <a:rPr b="0" lang="tr-TR" sz="2400" spc="-1" strike="noStrike">
                <a:solidFill>
                  <a:srgbClr val="000000"/>
                </a:solidFill>
                <a:latin typeface="Times New Roman"/>
                <a:ea typeface="Times New Roman"/>
              </a:rPr>
              <a:t>evet, anlaşıldı mı, şey, yani, çocuklar, demem o ki… gibi sözleri tekrar edip durmak söyleyiş güzelliğini bozar.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Söyleyiş yanlışları yapmak, anlamsız sesler çıkarmak: </a:t>
            </a:r>
            <a:r>
              <a:rPr b="0" lang="tr-TR" sz="2400" spc="-1" strike="noStrike">
                <a:solidFill>
                  <a:srgbClr val="000000"/>
                </a:solidFill>
                <a:latin typeface="Times New Roman"/>
                <a:ea typeface="Times New Roman"/>
              </a:rPr>
              <a:t>Yanlış telâffuz ve yanlış söylenen bir kelime konuşmanın ahengini bozar.  Örneğin:</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Türkiye hala ayakta. – Türkiye hâlâ ayakta.   gibi.     </a:t>
            </a:r>
            <a:endParaRPr b="0" lang="en-US" sz="24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4000" y="691920"/>
            <a:ext cx="755964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atırlanamayan sözler yerine </a:t>
            </a:r>
            <a:r>
              <a:rPr b="0" i="1" lang="tr-TR" sz="2400" spc="-1" strike="noStrike">
                <a:solidFill>
                  <a:srgbClr val="000000"/>
                </a:solidFill>
                <a:latin typeface="Times New Roman"/>
                <a:ea typeface="Times New Roman"/>
              </a:rPr>
              <a:t>aaa, eee, ııı… </a:t>
            </a:r>
            <a:r>
              <a:rPr b="0" lang="tr-TR" sz="2400" spc="-1" strike="noStrike">
                <a:solidFill>
                  <a:srgbClr val="000000"/>
                </a:solidFill>
                <a:latin typeface="Times New Roman"/>
                <a:ea typeface="Times New Roman"/>
              </a:rPr>
              <a:t>gibi anlamsız sesler çıkarmak da önemli söyleyiş hatalarındandı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Argo ve kaba konuşmak: </a:t>
            </a:r>
            <a:r>
              <a:rPr b="0" lang="tr-TR" sz="2400" spc="-1" strike="noStrike">
                <a:solidFill>
                  <a:srgbClr val="000000"/>
                </a:solidFill>
                <a:latin typeface="Times New Roman"/>
                <a:ea typeface="Times New Roman"/>
              </a:rPr>
              <a:t>Argo, kaba söz, küfür gibi sözler asla güzel bir konuşmada olmaması gereken unsurlardandır.</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İyi bir konuşma sesine sahip olmamak: </a:t>
            </a:r>
            <a:r>
              <a:rPr b="0" lang="tr-TR" sz="2400" spc="-1" strike="noStrike">
                <a:solidFill>
                  <a:srgbClr val="000000"/>
                </a:solidFill>
                <a:latin typeface="Times New Roman"/>
                <a:ea typeface="Times New Roman"/>
              </a:rPr>
              <a:t> İyi bir konuşma sesine sahip olmak da güzel ve etkili konuşma için çok önemlidir. İyi bir konuşma sesi;  işitilebilir, akıcı, anlamlı, monotonluktan uzak ve kulak tırmalamayan hoş bir sesti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Vurgu ve tonlamaya dikkat etmemek: </a:t>
            </a:r>
            <a:r>
              <a:rPr b="0" lang="tr-TR" sz="2400" spc="-1" strike="noStrike">
                <a:solidFill>
                  <a:srgbClr val="000000"/>
                </a:solidFill>
                <a:latin typeface="Times New Roman"/>
                <a:ea typeface="Times New Roman"/>
              </a:rPr>
              <a:t>İyi bir konuşma için doğru telâffuz, vurgu ve tonlama çok önemlidir. Vurgu, söze duygu değeri katar, dinleyicilerin dikkatini uyanık tutarak anlamın kavranmasını kolaylaştırı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899640" y="691920"/>
            <a:ext cx="7272360" cy="583236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3.Konuşma kurallarını bilmemekten kaynaklanan yanlışla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Güzel ve etkili konuşma kurallarını bilmeyen, bu konuda deneyimi olmayan, konuşma sırasında yapılan yanlışların neler olduğundan habersiz bir konuşmacının başarılı konuşmalar yapması mümkün değildir.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Üslup yanlışları: </a:t>
            </a:r>
            <a:r>
              <a:rPr b="0" lang="tr-TR" sz="2400" spc="-1" strike="noStrike">
                <a:solidFill>
                  <a:srgbClr val="000000"/>
                </a:solidFill>
                <a:latin typeface="Times New Roman"/>
                <a:ea typeface="Times New Roman"/>
              </a:rPr>
              <a:t>Yerine, kişisine, zamanına, konusuna göre konuşmamak, konuşma türlerini ve kime nasıl hitap edileceğini bilmemek gibi yanlışlar önemli üslup hatalarındand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Plansızlık: </a:t>
            </a:r>
            <a:r>
              <a:rPr b="0" lang="tr-TR" sz="2400" spc="-1" strike="noStrike">
                <a:solidFill>
                  <a:srgbClr val="000000"/>
                </a:solidFill>
                <a:latin typeface="Times New Roman"/>
                <a:ea typeface="Times New Roman"/>
              </a:rPr>
              <a:t>Bir dinleyici grubu önünde yapılan sunuş konuşmaları bir konuşma planı yapmayı gerektirir.  Plansız bir insanın bir kitle önünde düzgün ve etkili konuşması bekleneme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900000" y="549360"/>
            <a:ext cx="7344000" cy="54720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ÜZEL KONUŞMA KURALLARI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 Muhatabınıza önem veriniz, saygılı olunuz, övünmeyin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Dinlemesini biliniz. Siz karşınızdakini dinlemezseniz, karşınızdaki de sizi dinlemeyecekti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3. Samimî olunuz ve yapmacıklıktan sakınınız. Söylediklerinize öncelikle kendiniz inan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4.Yere, zamana, duruma ve muhataba uygun bir konu seçiniz, boş konuşmayını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900000" y="620280"/>
            <a:ext cx="7344000" cy="5977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5. Çevrenizdekilere sık sık nasihat vermeye kalkmayınız, olumsuz ve ümit kırıcı konuşmaktan kaçınınız. </a:t>
            </a: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6.Ne konuştuğunuzdan ziyade nasıl konuştuğunuz önemlidir. Bu yüzden kelime seçimine, bunları doğru şekilde ifade etmeye, üslubunuza dikkat ediniz. Edebî dille konuşmaya çalışınız. Söz varlığınızı genişletin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7.Mümkün olduğu kadar sağlam ve kısa cümleler kurunuz, uzun cümlelerden kaçınınız.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971640" y="620280"/>
            <a:ext cx="7200720" cy="5977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8.Sesinizin tonunu duygu ve düşüncelerinize göre ayarlayınız. Tek düze ses tonuyla konuşmay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9.Jest ve mimiklerden aşırılığa  kaçmadan ve gerektiği ölçüde yararlanınız. Beden dilinizi ustalıkla kullan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0.Bir sunuş konuşması yapacaksanız, mutlaka hazırlık ve plan yapını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1.Dinleyicilerinizle göz irtibatı kurunuz. Konuşma sırasında sadece bir yere veya kişiye değil, dinleyicilerin hepsine bakmaya çalış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2. Konuşma sırasında doğruyu güzel bir üslupla ifade etmeye özen gösteriniz. Kendinize ait bir üslup geliştiriniz. Yeri geldikçe benzetmelerden, kişileştirmelerden, tezatlardan, özlü sözlerden ve fıkralardan yararlanını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5640" y="764640"/>
            <a:ext cx="7416720" cy="5688360"/>
          </a:xfrm>
          <a:prstGeom prst="rect">
            <a:avLst/>
          </a:prstGeom>
          <a:noFill/>
          <a:ln w="0">
            <a:noFill/>
          </a:ln>
        </p:spPr>
        <p:txBody>
          <a:bodyPr anchor="t">
            <a:noAutofit/>
          </a:bodyPr>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aynaklar</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 Yakup Karasoy, Orhan Yavuz, Ahmet Kayasandık, Bekir Direkci, Üniversiteler için Uygulamalı Türk Dili ve Kompozisyon Bilgileri, Aybil Yay., Konya, 2012.</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 Kemal Yavuz, Kazım Yetiş, Necat Birinci, Üniversite Türk Dili ve Kompozisyon Dersleri, Bayrak yay., İst., 1999.</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3. Ali Emirosmanoğlu, Yükseköğretim Öğrencileri İçin Türkçe Kompozisyon,  Emek Matbaacılık, Manisa, 2006</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4. Gülşen seyhan Alışık, Latif Beyreli, Liseler İçin Güzel Konuşma ve Yazma, Meb Yay., Ankara, 2001.</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5. Hüseyin Tuncer, Anlatma Teknikleri, Orkun Kitabevi, İzmir, 200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826560" y="404640"/>
            <a:ext cx="7417080" cy="5832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ÜZEL VE ETKİLİ KONUŞMA</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uygu, düşünce ve hayallerin ses ve sözle dile getirilmesine “konuşma” denir. İnsanı diğer canlılardan ayıran önemli özelliklerden biri olan konuşma  insanlar için vazgeçilmez bir ihtiyaçtır. Konuşma sanatını bilmeyen biri ne kadar akıllı, ne kadar değerli olursa olsun, kendini dinletemez, muhatabını inandırama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nın kendine özgü; az konuşma, dinleme, konuşulan kişiye önem verme, az şaka yapma, iltifatta bulunma, kimsenin arkasından konuşmama ve kendisinden  övgüyle söz etmeme gibi kuralları vard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899640" y="620280"/>
            <a:ext cx="7272360" cy="5761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Güzel konuşma, yerine, zamanına, kişisine uygun olarak yapılan konuşmadır. Neyi, nerede, ne zaman, kime, nasıl söyleyeceğini bilmektir. Güzel konuşan insanın çevrede saygı gördüğü ve sevildiği bir gerçektir. İyi ve güzel konuşmak bir sanatt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da en önemli hususlardan birisi sesin kullanımıdır.  Sesimiz ve konuşmamız kişiliğimizle ilgili önemli ipuçlarını içinde saklar. Dinlediğimiz bir kişinin eğitim durumu, mizacı, kendine güveni, kibirli ya da alçakgönüllü oluşu hakkında kanaatlere ulaşabilir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aşarılı yöneticilerin, liderlerin, toplum  içindeki saygın kişilerin en önemli vasıflarından biri de güzel ve etkili konuşmalarıdır.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899640" y="764640"/>
            <a:ext cx="7201080" cy="575964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mizde güzel konuşmanın önemini belirten bir çok atasözü ve vecize var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Söz biliyorsan konuş insan sansınlar, bilmiyorsan sus adam sansınla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Tatlı dil yılanı deliğinden çıkar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Söz gümüşse sükût altın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Konuş ki seni tanıyayım.”</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İnsanlar konuşa konuşa, hayvanlar koklaşa koklaşa.”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899640" y="691920"/>
            <a:ext cx="7272360" cy="5616360"/>
          </a:xfrm>
          <a:prstGeom prst="rect">
            <a:avLst/>
          </a:prstGeom>
          <a:noFill/>
          <a:ln w="0">
            <a:noFill/>
          </a:ln>
        </p:spPr>
        <p:txBody>
          <a:bodyPr anchor="t">
            <a:no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MA YANLIŞLARI</a:t>
            </a:r>
            <a:endParaRPr b="0" lang="en-US" sz="2400" spc="-1" strike="noStrike">
              <a:solidFill>
                <a:srgbClr val="000000"/>
              </a:solidFill>
              <a:latin typeface="Calibri"/>
            </a:endParaRPr>
          </a:p>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ışkanlıklardan kaynaklanan konuşma yanlışları</a:t>
            </a: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Söyleyiş tarzıyla ilgili yanlışlar</a:t>
            </a: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ma kurallarını bilmemekten kaynaklanan yanlışlar</a:t>
            </a:r>
            <a:endParaRPr b="0" lang="en-US" sz="2400" spc="-1" strike="noStrike">
              <a:solidFill>
                <a:srgbClr val="000000"/>
              </a:solidFill>
              <a:latin typeface="Calibri"/>
            </a:endParaRPr>
          </a:p>
          <a:p>
            <a:pPr lvl="1" marL="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mak üzere üç başlıkta toplan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539640" y="692280"/>
            <a:ext cx="7632720" cy="5689440"/>
          </a:xfrm>
          <a:prstGeom prst="rect">
            <a:avLst/>
          </a:prstGeom>
          <a:noFill/>
          <a:ln w="0">
            <a:noFill/>
          </a:ln>
        </p:spPr>
        <p:txBody>
          <a:bodyPr anchor="t">
            <a:noAutofit/>
          </a:bodyPr>
          <a:p>
            <a:pPr lvl="1" marL="914400" indent="-457200" algn="just">
              <a:lnSpc>
                <a:spcPct val="90000"/>
              </a:lnSpc>
              <a:spcBef>
                <a:spcPts val="499"/>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ışkanlıklardan kaynaklanan konuşma yanlışları </a:t>
            </a: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ibirlenmek: </a:t>
            </a:r>
            <a:r>
              <a:rPr b="0" lang="tr-TR" sz="2400" spc="-1" strike="noStrike">
                <a:solidFill>
                  <a:srgbClr val="000000"/>
                </a:solidFill>
                <a:latin typeface="Times New Roman"/>
                <a:ea typeface="Times New Roman"/>
              </a:rPr>
              <a:t>Kişinin kendini diğer insanlardan üstün görmesi, onlara tepeden bakması, gururlanması demektir.  Kibirli insanlar ister istemez bu huylarını konuşmalarına da yansıtırlar. Böyle insanlar, başkalarına saygı göstermedikleri için kendileri de saygı görmez ve kimse onlarla muhatap olmak istemez.</a:t>
            </a: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lgisizlik: </a:t>
            </a:r>
            <a:r>
              <a:rPr b="0" lang="tr-TR" sz="2400" spc="-1" strike="noStrike">
                <a:solidFill>
                  <a:srgbClr val="000000"/>
                </a:solidFill>
                <a:latin typeface="Times New Roman"/>
                <a:ea typeface="Times New Roman"/>
              </a:rPr>
              <a:t>Kibirli inanların bir diğer özelliğidir. Bu tür insanlar, kendilerinden başka kimseyi dinlemediklerinden dolayı yerli yersiz sorularla ilgisizliklerini de ortaya çıkarırl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anın sözünü  kesmek: </a:t>
            </a:r>
            <a:r>
              <a:rPr b="0" lang="tr-TR" sz="2400" spc="-1" strike="noStrike">
                <a:solidFill>
                  <a:srgbClr val="000000"/>
                </a:solidFill>
                <a:latin typeface="Times New Roman"/>
                <a:ea typeface="Times New Roman"/>
              </a:rPr>
              <a:t>Birisi konuşurken araya girmek, soru sormak, sabırsızlık göstermek, itiraz etmek konuşmayla ilgili yanlış bir davranışt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endini yetersiz görmek: </a:t>
            </a:r>
            <a:r>
              <a:rPr b="0" lang="tr-TR" sz="2400" spc="-1" strike="noStrike">
                <a:solidFill>
                  <a:srgbClr val="000000"/>
                </a:solidFill>
                <a:latin typeface="Times New Roman"/>
                <a:ea typeface="Times New Roman"/>
              </a:rPr>
              <a:t>Başarılı bir konuşmanın temelinde güven vardır. Kendini beğenmek gibi kendini yetersiz görmek de bir konuşma yanlışlığı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ay etme: </a:t>
            </a:r>
            <a:r>
              <a:rPr b="0" lang="tr-TR" sz="2400" spc="-1" strike="noStrike">
                <a:solidFill>
                  <a:srgbClr val="000000"/>
                </a:solidFill>
                <a:latin typeface="Times New Roman"/>
                <a:ea typeface="Times New Roman"/>
              </a:rPr>
              <a:t>Başkalarını hafife almak, onları toplum içinde küçük düşürmek, onlarla alay etmek de önemli bir konuşma yanlışlığıdır. Bunun için «İstediğini söyleyen istemediğini işitir.» sözünü akıldan çıkarmamak lazım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evezelik: </a:t>
            </a:r>
            <a:r>
              <a:rPr b="0" lang="tr-TR" sz="2400" spc="-1" strike="noStrike">
                <a:solidFill>
                  <a:srgbClr val="000000"/>
                </a:solidFill>
                <a:latin typeface="Times New Roman"/>
                <a:ea typeface="Times New Roman"/>
              </a:rPr>
              <a:t>Başkalarına konuşma hakkı tanımamak, ilgili ya da ilgisiz sürekli ben konuşayım demek de bir konuşma hatasıdır.</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Yapmacıklık:  </a:t>
            </a:r>
            <a:r>
              <a:rPr b="0" lang="tr-TR" sz="2400" spc="-1" strike="noStrike">
                <a:solidFill>
                  <a:srgbClr val="000000"/>
                </a:solidFill>
                <a:latin typeface="Times New Roman"/>
                <a:ea typeface="Times New Roman"/>
              </a:rPr>
              <a:t>Kişinin tavırları, düşünceleri,  kültürü ve aldığı eğitimle konuşmaları birbirine uyumlu olmalıdır. Yoksa yapmacık tavırlar içine girilmiş olur ki bu da önemli bir davranış eksikliğidir. Bu konuda Mevlâna ne güzel söylemiştir: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a olduğun gibi görün, ya göründüğün gibi ol!</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Bencillik: </a:t>
            </a:r>
            <a:r>
              <a:rPr b="0" lang="tr-TR" sz="2400" spc="-1" strike="noStrike">
                <a:solidFill>
                  <a:srgbClr val="000000"/>
                </a:solidFill>
                <a:latin typeface="Times New Roman"/>
                <a:ea typeface="Times New Roman"/>
              </a:rPr>
              <a:t>Sürekli olarak kendinden söz etmek, kendini ön plana sürmek, hep </a:t>
            </a:r>
            <a:r>
              <a:rPr b="1" i="1" lang="tr-TR" sz="2400" spc="-1" strike="noStrike">
                <a:solidFill>
                  <a:srgbClr val="000000"/>
                </a:solidFill>
                <a:latin typeface="Times New Roman"/>
                <a:ea typeface="Times New Roman"/>
              </a:rPr>
              <a:t>ben</a:t>
            </a:r>
            <a:r>
              <a:rPr b="0" lang="tr-TR" sz="2400" spc="-1" strike="noStrike">
                <a:solidFill>
                  <a:srgbClr val="000000"/>
                </a:solidFill>
                <a:latin typeface="Times New Roman"/>
                <a:ea typeface="Times New Roman"/>
              </a:rPr>
              <a:t> zamiriyle kendinden bahsetmek de en çok karşılaştığımız konuşma yanlışlarından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20640"/>
            <a:ext cx="7201080" cy="5904000"/>
          </a:xfrm>
          <a:prstGeom prst="rect">
            <a:avLst/>
          </a:prstGeom>
          <a:noFill/>
          <a:ln w="0">
            <a:noFill/>
          </a:ln>
        </p:spPr>
        <p:txBody>
          <a:bodyPr anchor="t">
            <a:normAutofit/>
          </a:bodyPr>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edikodu etmek: </a:t>
            </a:r>
            <a:r>
              <a:rPr b="0" lang="tr-TR" sz="2400" spc="-1" strike="noStrike">
                <a:solidFill>
                  <a:srgbClr val="000000"/>
                </a:solidFill>
                <a:latin typeface="Times New Roman"/>
                <a:ea typeface="Times New Roman"/>
              </a:rPr>
              <a:t>Konusu kınama ya da çekiştirme olan konuşmalardır. Dedikodu, basit ruhlu insanların eğlencesidi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esin Konuşmak: </a:t>
            </a:r>
            <a:r>
              <a:rPr b="0" lang="tr-TR" sz="2400" spc="-1" strike="noStrike">
                <a:solidFill>
                  <a:srgbClr val="000000"/>
                </a:solidFill>
                <a:latin typeface="Times New Roman"/>
                <a:ea typeface="Times New Roman"/>
              </a:rPr>
              <a:t>Başkalarının düşüncelerine saygı duymamak, kendi düşüncesini dayatmak, kestirip atmak, hoşgörüye tahammülü olmamak demektir. Bu da diğer davranışlar gibi konuşmada hoş karşılanmayan yanlışlardan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49:43Z</dcterms:created>
  <dc:creator>tuba</dc:creator>
  <dc:description/>
  <dc:language>en-US</dc:language>
  <cp:lastModifiedBy>pc</cp:lastModifiedBy>
  <dcterms:modified xsi:type="dcterms:W3CDTF">2018-04-23T19:27:21Z</dcterms:modified>
  <cp:revision>56</cp:revision>
  <dc:subject/>
  <dc:title>Slayt 1</dc:title>
</cp:coreProperties>
</file>